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098054"/>
        <c:axId val="29539742"/>
      </c:barChart>
      <c:catAx>
        <c:axId val="120980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539742"/>
        <c:crosses val="autoZero"/>
        <c:auto val="1"/>
        <c:lblAlgn val="ctr"/>
        <c:lblOffset val="100"/>
        <c:noMultiLvlLbl val="0"/>
      </c:catAx>
      <c:valAx>
        <c:axId val="295397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0980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CF5D-E613-4D4F-B088-6AFB660C3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9EB6-9C70-46C5-9FB9-ED557EC7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53D5-8060-487A-8294-576DE725A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6466-508A-4C32-820E-54CBFC215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413B-4CCE-4C58-9423-6193645F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5446-75AF-49A7-A71A-4EE49991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3B69-FED0-478D-9A88-31767279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BD20-3968-4A36-8D73-9AB6AF5C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7DFE-AD86-4B24-80D8-018029BC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621B-332D-4328-ABE1-B7853726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6683-644F-49D4-84AA-30C2D196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E186-522B-4FE3-BE65-227FFF5B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7DD1E3-4F61-42D6-A278-507CCB5D72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